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E84-20DA-4060-A979-21DC2B3D6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ЩАТЬСЯ С ПОДРОСТ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FDFE-2393-47D0-A8F4-24DBDDC60A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ИЕ ПОДРОС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ОЧУЕТ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ТРЕБУЕТ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ОГУЛИВАЕТ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ХАМИТ ВЗРОС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УГРОЖАЕТ СУИЦИ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7C6C-A6F5-4D05-B408-2134F69A25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ИЧНЫЕ ОШИБ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АЖАЙТЕ РЕБЁНКА ПОД ДОМАШНИЙ АР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БЕЙТЕ И НЕ КРИЧ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ЗАПРЕШАЙТЕ ИГРАТЬ В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1506-A3BC-4CA8-AAF1-CDA1565520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ЫЕ ФРАЗ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ЙТЕ ПРЕДЛОЖЕНИЯ С МЕСТОИМЕНИЯ «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МЕСТО «ТЫ ДОЛЖЕН» ГОВОРИТЕ:  «МНЕ БЫ ХОТЕЛОС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ЕРЕД КРИТИКОЙ ПОХВА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DDA7-8FC9-4F8A-B43A-1501C6D022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икасайтесь к подростку как можно чаще - берите за руку, обнимайте, гладьте по гол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Ребёнок будет чувствовать себя любимым и станет меньше бунт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A13D-F279-4AF2-BF82-56660CF03C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ЕРИТЕСЬ ТЕРП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ИЗУЧИТЕ, КАК ВЕСТИ СЕБЯ В СЛОЖНЫХ СИТУА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ТЕРЯЙТЕ КОНТАКТА С БУНТАРЁ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506A-E37A-4D00-BF02-54BE6127A7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ХОВ ВАМ В ОБЩЕНИИ С ПОДРОСТК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8327-C884-4866-9EB2-5C8DDA9E42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78F-AB8A-42DB-A38A-0056F00D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11D-5E45-45AD-8517-13B034F5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39B-2A8D-4EA3-B513-EE836C78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49D-3719-48F2-A7E5-A256E415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BE3-AA6F-4C56-B16E-0C2BF703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821-4CFE-420C-A82D-362F1A68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DF2-B714-4DC9-9CFD-7788580D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5A8-8B8A-48A2-8111-F458CF12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036-AD52-4C2F-9CB7-0F8EC1DC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F7A-46D3-4746-81DD-437B8849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BE1-F91D-4D2C-879E-F87A7D46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BF7-530E-4B73-A612-C98F0B76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ACEC-CAB9-4121-A554-4F9FB1EE50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79966779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79966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51470012"/>
          <p:cNvPicPr/>
          <p:nvPr/>
        </p:nvPicPr>
        <p:blipFill>
          <a:blip r:embed="rId1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1444841"/>
          <p:cNvPicPr/>
          <p:nvPr/>
        </p:nvPicPr>
        <p:blipFill>
          <a:blip r:embed="rId1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06"/>
          <p:cNvPicPr/>
          <p:nvPr/>
        </p:nvPicPr>
        <p:blipFill>
          <a:blip r:embed="rId1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1470012"/>
          <p:cNvPicPr/>
          <p:nvPr/>
        </p:nvPicPr>
        <p:blipFill>
          <a:blip r:embed="rId2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LEGION</cp:lastModifiedBy>
  <dcterms:modified xsi:type="dcterms:W3CDTF">2015-01-27T14:00:22Z</dcterms:modified>
  <cp:revision>6</cp:revision>
  <dc:subject/>
  <dc:title>КАК ОБЩАТЬСЯ С ПОДРОСТКОМ</dc:title>
</cp:coreProperties>
</file>